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77DE-2B61-4002-BCAC-6FC737C23F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8755-C129-4252-B25D-A9183780B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й схеме собраны почти все варианты  названий трех уровней распределенного приложения. Чтобы избежать путаницы, будем именовать уровни так: 1st tier, 2nd tier и 3rd tier, по причине краткости написания. Выбирать названия по другим критериям слишком сложно. 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D04D-1CCA-41A8-AC25-B84A7567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1304-53DA-4E61-AFE2-14ABF6B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C7B9-976E-4F2A-A7AB-1DD649C5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9A2D-ED4F-40AA-828C-728426AE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1A11-BD78-43B7-88ED-62332C16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F234-51C6-4028-914C-14FC7C5F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F752-5C7D-4436-BE8C-36E60951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8575-D4D0-4702-A6A3-8FC057BC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3C86-F57B-43E6-AA9C-5A0FB2A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809-DAE5-4C4E-B1B4-B9175C1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A6B-E61E-4223-BCCC-A3DD764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BB1B-99FF-4E66-B0B2-513D45A3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9784-CFF5-4C69-B34C-E743A2A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5A7D-0204-40D5-94B7-5747846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499-9BF4-4574-B311-DDC1FEFE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55E1-81C7-4315-A0DF-DE9BFDC7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D65B-C7AD-40D5-A4C8-87AE69A6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CB2E-3F4F-4F7F-B5A8-83B276F7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A1F4F-E72D-4BC6-9963-765878B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E894-765D-4024-8634-C46394C4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2F6C-B5EA-4429-BE21-E00300D0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D3FB-2656-4C45-8C15-80BBC6FF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4599-DE38-4CF9-8DE6-47CE11FC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968BB-994C-43FE-9ACD-313B8C1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FE28-5B18-438F-8129-C290AED1C6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DC25-AF88-4287-B152-7C6AA6D9E8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одели клиент-серве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вух уровневая модель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ая модель (идеальная и фактическая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нципы построения клиент серверных приложений при использовании двух- 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уровневой модели построения приложен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(идеальны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94172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Такой подход позволяет четко очертить границы уровня бизнес-логики и отличие 3-х уровневого подхода от 2-х уровневого (клиент-серве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net184_5"/>
          <p:cNvPicPr/>
          <p:nvPr/>
        </p:nvPicPr>
        <p:blipFill>
          <a:blip r:embed="rId1"/>
          <a:stretch/>
        </p:blipFill>
        <p:spPr>
          <a:xfrm>
            <a:off x="900000" y="1844640"/>
            <a:ext cx="6912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(фактически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68360" y="3789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рактике, мы имеем нечто подобное. По различным причинам бизнес-логика остается на 1st и 3rd tier. Это может быть оправдано, если не приведет к перегрузке уровня, на котором находится ненормированный код. И если этот код легко можно перенести в 2nd tier объекты. Например,  поместив бизнес-логику в хранимые процедуры в 3rd tier, мы можем получить большой выигрыш в производительности. Если же эти хранимые процедуры написаны в виде внешних модулей на высокоуровневом языке, то перенести их в 2nd tier будет несложно. А вот бизнес-логика на 1st tier распространена повсеместно (как уже упоминалось), и, обычно, связана с неудачной архите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inet184_5"/>
          <p:cNvPicPr/>
          <p:nvPr/>
        </p:nvPicPr>
        <p:blipFill>
          <a:blip r:embed="rId1"/>
          <a:stretch/>
        </p:blipFill>
        <p:spPr>
          <a:xfrm>
            <a:off x="2484360" y="1557360"/>
            <a:ext cx="374508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х 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аждый уровень распределенного приложения может взаимодействовать только со смежным уровнем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: 1st tier не должен иметь прямого доступа к 3rd tier и наоборот; 2nd и 3rd tiers не должны иметь прямого интерфейса с пользователем; обращение к источнику данных из 1st tier происходит только через объекты 2-nd tie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ся сложная бизнес-логика находится в объектах 2nd tier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же упоминалось, это условие часто нарушается, снижая возможность масштабирования. Хотя подобные решения иногда оправд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Взаимодействие уровней организовано так, чтобы они могли взаимодействовать по сети, находясь физически на различных  компьютерах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значает, что распределенная архитектура не зависит от способа развертывания (deployment) приложения - все уровни могут быть размещены физически как одном компьютере, так и на разных, в условиях заданной сетевой струк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Основные критерии идеальной </a:t>
            </a:r>
            <a:br>
              <a:rPr sz="3200"/>
            </a:br>
            <a:r>
              <a:rPr b="1" lang="en-US" sz="3200" spc="-1" strike="noStrike">
                <a:solidFill>
                  <a:srgbClr val="9999cc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-уровневой архитек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Сущности данных  независимы от способа их хранения,  уникально идентифицируемы по какому-либо ключу, и независимы от способа и места хранения других сущностей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, в частности, иногда означает отсутствие в некоторых таблицах связей по внешним ключам, что позволяет хранить группы таблиц, имеющих отношение к одной сущности, в разных базах данных. Однако тогда необходимо отслеживать целостность данных дополнительным кодом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cc"/>
                </a:solidFill>
                <a:latin typeface="Arial"/>
              </a:rPr>
              <a:t>Уровни клиент-серверной архите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upload.wikimedia.org/wikipedia/commons/thumb/5/51/Overview_of_a_three-tier_application_vectorVersion.svg/400px-Overview_of_a_three-tier_application_vectorVersion.svg.png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рхитектура клиент-сервер, совсем недавно считавшаяся сложной средой, постепенно превратилась в исключительно сложную среду. Почему? Благодаря ускоренному, переходу к использованию в конструкции систем клиент-сервер нескольких звень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онно при разработке систем клиент-сервер используются только два звена - клиент и сервер. В двухзвенной системе большую часть логики программы разработчики помещают на системе клиента, используя сервер только для обслуживания данных. Этот тип конфигурации известен также, как модель "толстый клиент - тонкий серве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2-x уровневая архитектура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inet184_3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981080" y="1600200"/>
            <a:ext cx="5329440" cy="3484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84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лассической архитектуре клиент-сервер, бизнес-логика может располагаться как на стороне  клиента, так и на сервере. В результате существует тенденция смешивания бизнес-логики с интерфейсом пользователя и/или со структурой Б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Хотя двухзвенные программы клиент-сервер просты в понимании, построении и обслуживании, эту модель невозможно масштабировать до уровня предприятия. Иными словами, двухзвенная архитектура не может обеспечивать работу тысяч пользователей с программами, установленными на предприятии, и в результате для этих целей применяются большие ЭВ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того чтобы обеспечить работу при столь больших вычислительных нагрузках, разработчики освоили применение трех- или многозвенной архитектуры. Это означает, что программа клиент- сервер распределяется по дополнительным процессорам или звеньям, обеспечивающих дополнительную вычислительную мощ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inet184_2"/>
          <p:cNvPicPr/>
          <p:nvPr/>
        </p:nvPicPr>
        <p:blipFill>
          <a:blip r:embed="rId1"/>
          <a:stretch/>
        </p:blipFill>
        <p:spPr>
          <a:xfrm>
            <a:off x="1295280" y="1752480"/>
            <a:ext cx="648036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схеме на предыдущем слайде собраны почти все варианты  названий трех уровней распределенного прилож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тобы избежать путаницы, будем именовать уровни так: 1st tier, 2nd tier и 3rd tier, по причине краткости напис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бирать названия по другим критериям слишком слож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зывать 3-х уровневую архитектуру N-уровневой вероятно не стоит, т.к. эти N уровней, обычно, появляются как более детальное изображение той же 3-х уровневой схемы, не внося принципиально новых идей. N-уровневые схемы удобны чтобы показать систему с точки зрения развертывания и администрирования. Но с точки зрения разработки эти дополнительные уровни  малоинтересны. 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уровня (с позиции программирования) - это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хранение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обработка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19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3333ff"/>
                </a:solidFill>
                <a:latin typeface="Arial"/>
              </a:rPr>
              <a:t>представление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я заключается в том, чтобы не смешивать эти три составляющ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вый подход - это просто хороший стиль программирования. Его можно применять при разработки практически любых приложен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овизна же и идея распределенных приложений в том, чтобы иметь возможность распределить эти три уровня физически на различных компьютерах, а также возможность иметь несколько взаимозаменяемых вариантов каждого уровня.  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3-x уровневая архитектура </a:t>
            </a:r>
            <a:br>
              <a:rPr sz="3200"/>
            </a:br>
            <a:r>
              <a:rPr b="0" lang="ru-RU" sz="3200" spc="-1" strike="noStrike">
                <a:solidFill>
                  <a:srgbClr val="9999cc"/>
                </a:solidFill>
                <a:latin typeface="Arial"/>
              </a:rPr>
              <a:t>(идеальный вариа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inet184_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066680" y="1828800"/>
            <a:ext cx="67820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Классическая 3-х уровневая архитектура распределен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-х уровненая архитектура подразумевает четкое выделение бизнес-логи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нтересно отметить, что сервисы для вызова бизнес-логики (2nd tier), относятся к 1st tier. А вот интерфейс с базой данных (или любым источником данных) - сразу к 3rd tier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ой подход позволяет четко очертить границы уровня бизнес-логики и отличие 3-х уровневого подхода от 2-х уровневого (клиент-сервер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stov Dmitrii</cp:lastModifiedBy>
  <dcterms:modified xsi:type="dcterms:W3CDTF">2013-02-27T03:33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